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ABC-2953-459F-8326-E2E075AE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21A-896C-4A7B-B77C-73A8C76A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E57-D40B-4D01-96F5-DF3C6100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F3F-7290-4C6C-9CA7-5DEA48B5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AF9-BF32-4318-A8DA-7FECA5B1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B48-C33B-4527-8745-08F7A7E9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203-75A2-4F0E-AC5F-EC98EEC8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7F6-9874-45E2-AB20-C3B885C6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82D-4184-41B0-9BE4-2976D1C1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B9B-6614-4C8B-A919-08E83A16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86F-9B95-4B23-B029-BD65DFD5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BD6-9321-486F-8140-78B8BA3C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B1AF-68E8-4B7D-8BFC-DB2941DDC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ibliaonline.com.br/acf/sl/51/11+" TargetMode="External"/><Relationship Id="rId2" Type="http://schemas.openxmlformats.org/officeDocument/2006/relationships/hyperlink" Target="http://www.bibliaonline.com.br/acf/sl/51/11+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8446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O DE CONTAS ÚN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NCULAÇÃO DE RECUR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7377120" cy="27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aria Laídes Hanauer Flat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nalista de Controle Exter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almas – TO, 13 de junho de 2008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469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22400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5120" y="180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6880" y="2421000"/>
            <a:ext cx="8817120" cy="4437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1989000"/>
            <a:ext cx="431640" cy="432000"/>
          </a:xfrm>
          <a:prstGeom prst="downArrow">
            <a:avLst>
              <a:gd name="adj1" fmla="val 50000"/>
              <a:gd name="adj2" fmla="val 250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2720" y="1989000"/>
            <a:ext cx="431640" cy="432000"/>
          </a:xfrm>
          <a:prstGeom prst="downArrow">
            <a:avLst>
              <a:gd name="adj1" fmla="val 50000"/>
              <a:gd name="adj2" fmla="val 250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55736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vo da Desp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150920" cy="8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35120" y="180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5960" y="2133720"/>
            <a:ext cx="8528040" cy="4535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720" y="1557360"/>
            <a:ext cx="431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4320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ssa com Certificação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3984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22400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1557360"/>
            <a:ext cx="85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 2ª etapa programada para 2008 será a geração e implantaçã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monstrativos da Lei Feder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nº 4.320/64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nexos da Lei de Responsabilid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isca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ertidões e alertas “</a:t>
            </a: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on line”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6165720"/>
            <a:ext cx="15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1989000"/>
            <a:ext cx="8642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 2ª Etapa (programada para 2008 será a geração e implantação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ocuração digita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nálise do Controle Interno “</a:t>
            </a: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on line”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ção de um grupo de estudos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ompanhamento do SIC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6165720"/>
            <a:ext cx="15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03640" y="3213000"/>
            <a:ext cx="1440000" cy="43200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3068640"/>
            <a:ext cx="1440000" cy="43164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5573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306864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320/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6165720"/>
            <a:ext cx="15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2852640"/>
            <a:ext cx="291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rtidã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er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3141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53006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natura 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35120" y="180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392720" cy="3745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2852640"/>
            <a:ext cx="46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155736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BIMENTO DA CERTID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651640" y="2708280"/>
            <a:ext cx="2835000" cy="3600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588000" y="1773360"/>
            <a:ext cx="1152720" cy="863640"/>
          </a:xfrm>
          <a:prstGeom prst="flowChartSummingJunction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122400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55736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tinação da Receita Pública é o processo pelo qual os 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recursos públicos são vinculados a uma despesa específica ou a qualquer que seja a aplicação de recurso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sde a previsão da receita até o efetivo pagament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as despesas constantes dos programas e ações governamentais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tem 10 do Manual de Receitas Públicas da STN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3120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nculação de Recur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0920" y="1557360"/>
            <a:ext cx="87138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VALOS DE CÓDIGOS DOS RECURSOS VINCUL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0001 a 199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tervalo de códigos definidos pelo TCE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utilização OBRIGATÓRIA na Administração Direta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0010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Recursos Próprios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0020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MDE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0030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FUNDEB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0040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SPS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0050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RPPS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3120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" y="1557360"/>
            <a:ext cx="86407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TERVALOS DE CÓDIGOS DOS RECURSOS VINCUL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ff"/>
                </a:solidFill>
                <a:latin typeface="Arial"/>
              </a:rPr>
              <a:t>500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- Código utilizado pela Administração Indireta para Recursos Próprios</a:t>
            </a:r>
            <a:r>
              <a:rPr b="0" lang="pt-BR" sz="3600" spc="-1" strike="noStrike">
                <a:solidFill>
                  <a:srgbClr val="0099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ff"/>
                </a:solidFill>
                <a:latin typeface="Arial"/>
              </a:rPr>
              <a:t>2000 a 4999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- Intervalo de LIVRE          utilização pelas Entidades da Adm. Direta</a:t>
            </a:r>
            <a:r>
              <a:rPr b="0" lang="pt-BR" sz="3600" spc="-1" strike="noStrike">
                <a:solidFill>
                  <a:srgbClr val="0099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Exemplo: FNDE (campo 4 do RRE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6011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0920" y="1557360"/>
            <a:ext cx="864216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ALOS DE CÓDIGOS DOS RECURSOS VINCULADO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5000 a 799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Intervalo de Livre utilização pelas Entidades da Administração Indireta, regidas pela LF nº 4320/64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8000 a 999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Intervalo para vinculação dos Recursos Extra-orçamentários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3120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557360"/>
            <a:ext cx="842472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N editou a Portaria nº 136, de 6 de março de 2007, criando 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upo Técnico de Padronização de Procedimentos Contábeis, responsável pela análise e a elaboração de diagnósticos e estudos, visando à padronização mínima de conceitos e práticas contábeis,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plano de cont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classificação orçamentária de receitas e despesas públicas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o âmbito da União, Estados, Distrito Federal e Municíp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ravés do SICAP – Sistema Integrado de Controle e Auditoria Pública, os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municípios tocantinense</a:t>
            </a:r>
            <a:r>
              <a:rPr b="0" lang="en-US" sz="2200" spc="-1" strike="noStrike">
                <a:solidFill>
                  <a:srgbClr val="6600ff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 antecipar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implantação do plano de contas único e o controle da vinculação de recurs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remessas de dados contábeis são encaminhadas ao TCE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or meio eletrônico e com assinatura digital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58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o de Contas Ú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1773360"/>
            <a:ext cx="86421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MAS FALHAS DETECTADAS NAS REMESSAS DO 1º e 2º Bimestre d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ão utilização da conta redutora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1.7.2.1.01.02.00.00.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9.1.7.2.1.01.02.00.00.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4.9.0.0.0.00.00.00.00.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3120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1557360"/>
            <a:ext cx="8893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Não contabilização do subelemento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3.3.3.9.0.30.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.00.00.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erial de Limpeza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tos de Higieniz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3120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0920" y="1241280"/>
            <a:ext cx="889308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Contas sintéticas com lançamento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Utilização  de  uma  só  fonte 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urso;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Exemplo: 08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Balancete  de  verificação  sem  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ldo inicia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Número    de    empenhos    nã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formizad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emplo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008.0000.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00000.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42920" y="1557360"/>
            <a:ext cx="720108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tusiasmo é agir com determinação para fazer dar certo o que planejamos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me lances fora da tua presença, e não retires de mim o teu Espírito Santo. 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lmo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51:1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o de Contas Ú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42920" y="15573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BRIG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aria Laídes Hanauer Flat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email: laidesflatin@uol.com.b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Tel: 63-3232-593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o de Contas Ú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809720"/>
            <a:ext cx="8497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Tribunal de Contas do Tocantins, dividiu em 2 etapas a implantação do SICAP (Sistema Integrado de Controle e Auditoria Pública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809720"/>
            <a:ext cx="8713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ª Etap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antação do Plano de Contas Único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ulamentação do envio da Remessa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antação da Certificação Digi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je isso já é uma realidad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jam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35120" y="180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24920" cy="4805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213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5300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335772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2637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22400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35120" y="180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067680" cy="4865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4221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22400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35120" y="180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4560" cy="4738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720" y="1989000"/>
            <a:ext cx="338292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15236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1844640"/>
            <a:ext cx="80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4724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2637000"/>
            <a:ext cx="64764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93080" y="3068640"/>
            <a:ext cx="64764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4842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te de Ver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22400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5640" y="1844640"/>
            <a:ext cx="801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8172360" cy="450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768760" y="29224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7691" y="8120"/>
                </a:moveTo>
                <a:lnTo>
                  <a:pt x="7691" y="812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2924280"/>
            <a:ext cx="16556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773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vo da receita por fonte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22400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00:42:38Z</dcterms:created>
  <dc:creator>administrador</dc:creator>
  <dc:description/>
  <dc:language>en-US</dc:language>
  <cp:lastModifiedBy>administrador</cp:lastModifiedBy>
  <dcterms:modified xsi:type="dcterms:W3CDTF">2008-06-13T15:56:21Z</dcterms:modified>
  <cp:revision>159</cp:revision>
  <dc:subject/>
  <dc:title>Plano de Contas Único</dc:title>
</cp:coreProperties>
</file>