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87A-8BC5-4AEE-87E6-B13027C6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51B-55EE-472F-B1D1-FA8B1D3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282-4199-4BF2-B932-AA774E6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BB2-D2FE-4591-A661-3AEE29E8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D229-CD76-4E23-AC7C-0D91BA11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75A1-45F4-44E4-9621-013E66BD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D99-25E8-4143-B4D7-6A19A628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E0E-C906-4C42-B03D-6134D09C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6D0E-E8AA-40A2-8AD9-B688A42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1586-B136-4DC7-8BA2-D676AAA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DA1-3E51-428D-BB14-7AB7742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8E3-DD71-49A9-BB58-49F24CE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6CF8-104A-4638-82F5-92B3F5B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E4A-00AA-420F-9E1D-59D5BCB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DE3-CF26-4C82-ACF2-41FBBBA9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1058-7AAD-495B-8F7F-679B6D60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F2D-BD45-4158-B8B4-0C8FD49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DFC-4900-4A08-867B-14B0AAD5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F7D-B562-459B-BF33-2BF3558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89B-C530-4346-80EF-841A4DF0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E8B-7870-462C-9E39-9F956C05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4AD-1452-40A5-BE06-2243857A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13-DC71-4AC7-BAFD-5DE237C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E46-EA2B-4350-A3D2-4C361D7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8830-097C-4095-A9A1-0EF2F61D0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CA6-C507-44AE-985D-043B16FE9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olução Administrativa TCE-TO n° 08/2008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térios para emissão de Parecer Prévio – contas consolid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llane M.D.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934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recolhimento, ou recolhimento a menor, das cotas de contribuição patronal do Ente à instituição de previdência (art. 195, I da Constituição Feder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retenção, ou retenção a menor, da contribuição previdenciária dos servidores/empregados, bem como ausência de recolhimento, ou recolhimento a menor, das referidas contribuições à instituição de previdência (art. 195, II da Constituição Federa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TRIÇÕES DE ORDEM LEGAL GRAVÍSSIM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trições de Ordem Legal -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cit de execução orçamentária –exceção (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a estrita ordem cronológica das exigi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o limite da dívida consoli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– Orde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gal (gravíssima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ão atendimento aos Princípios Fundamentais de Contabilidade e técnicas de registros contábeis (abrange omissão de ativos, passivos, receitas, despesas, ajust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contabilização como dívidas – precatórios não pagos na execução do Or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nar operação de crédito sem autorização legislativa ou que supere os limites estabelecidos em Resolução do Senado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ão – Orde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g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 mandato – artigo 42 da LC n° 101/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r despesa com pessoal nos últimos 180 d do man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o limite legal de despesa com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orrência de déficit financeiro e/ou inscrição de restos a pagar sem disponibilidade financ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TRIÇÕES DE ORDEM LEGAL  - GRA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licação de receita de alienação de bens em despesa corrente, salvo se destinada ao regime de Previdência Próprio dos servidores públic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star garantia em Operação de crédito sem que tenha sido constituída contragarantia em valor igual ou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ixar de enviar ou divulgar o RGF nos prazos e condições estabelecidos em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r LDO sem o Anexo de Metas e Riscos Fis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limitar a expedição de empenhos e a movimentação financeira nos casos estabelecidos em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iciência de arrecadação tributária quando não comprovadas providências de combate à evasão e a sonegação e demais medidas para incremento das receitas tribut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ção de orçamento superestimado (abaixo de 65% e observada a arrecadação dos últimos 3 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ecer Prévi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s consolidadas (inclui todos os Poderes/Órgã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com base nos Balanços e Relatório Geren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que: cumprimento de normas constitucionais e legais, e dos instrumentos de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934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i Orgânica – art. 10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arecer prévio (...) consistirá em apreciação geral e fundamentada da gestão (...) devendo demonstr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o Balanço Geral do Município representa adequadamente a posi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nceira, orçamentária e patrimonial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íp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 31 de dezembro, bem como se as operações estão de acordo com 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s fundamentais de contabilid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licados à administração pública municipal, concluindo por recomendar a aprovação ou a rejeição das co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934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CE-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DA INFORMAÇÃO DOS BALANÇOS ENCAMINHADOS AO TRIBUNAL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lução Administrativa n° 08/200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abelece critérios que devem ser observados para emissão de parecer prévio sobre contas anuais no âmbito deste Tribunal de Con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abelece as principais irregularidades que constituem fator de rejeição das contas anuais consolid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86920" y="1341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TRIÇÕES DE ORDEM CONSTITUCIO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VÍSSI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TRIÇÕES DE ORDEM CONSTITUCIONAL – GRAVÍSSIMA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e no mínimo 25% das receitas de impostos em MDE – ed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os 60% do FUNDEB em remuneração dos profissionais do magisté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e no mínimo 15%-Municípios, das receitas de impostos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sse de valores ao Poder Legislativo em desacordo com os limites estabelecidos na Constituição Feder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umprimento ao que dispõe o art. 167 da Constituição Feder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ação de pessoal por tempo determinado sem lei aprovada pela Câmara Municipal, ou contínua renovação de contrato como burla ao concurso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inclusão, no orçamento, da verba necessária ao pagamento de seus débitos oriundos de sentenças transitadas em julgado, constante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tóri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entados até 1º de julho, fazendo-se o pagamento até o final do exercício seguinte, quando terão seus valores atualizados monetari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8:32:07Z</dcterms:created>
  <dc:creator>wellanemds</dc:creator>
  <dc:description/>
  <dc:language>en-US</dc:language>
  <cp:lastModifiedBy>wellanemds</cp:lastModifiedBy>
  <dcterms:modified xsi:type="dcterms:W3CDTF">2008-06-12T19:25:25Z</dcterms:modified>
  <cp:revision>12</cp:revision>
  <dc:subject/>
  <dc:title>Resolução Administrativa TCE-TO n° 08/2008</dc:title>
</cp:coreProperties>
</file>